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png" ContentType="image/png"/>
  <Override PartName="/ppt/media/image2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BBF-5146-4FD1-B8C1-75AB83E8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9BA-9DE2-4030-8230-78CCBA4E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00E-77CE-4AAD-9B42-F95D21EF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C6C-1EFC-4C4A-BF2F-7AC4D1EC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EF6-F317-4E71-B374-34083CB2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E39-6650-4C73-9EBE-7D1BA044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BBF-27D3-4F6F-9224-765A7617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A21-2343-49ED-9410-154B64D6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73D-6D20-46AD-B4D5-CCFA420A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6E1-8088-4104-A060-F904DB7A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682-87EA-4B8C-A10A-C8B9A2F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93B-3D12-4B25-B184-71518C38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4F89-9FE5-435B-B72F-55DCC4E94E59}" type="slidenum">
              <a:rPr b="0" lang="nl-B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142120" cy="24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Конфликт. Эффективные способы его разреше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1128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j0238244"/>
          <p:cNvPicPr/>
          <p:nvPr/>
        </p:nvPicPr>
        <p:blipFill>
          <a:blip r:embed="rId1"/>
          <a:stretch/>
        </p:blipFill>
        <p:spPr>
          <a:xfrm>
            <a:off x="3203640" y="4572000"/>
            <a:ext cx="3035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11280" y="1557360"/>
            <a:ext cx="5256000" cy="2087640"/>
          </a:xfrm>
          <a:prstGeom prst="cloudCallout">
            <a:avLst>
              <a:gd name="adj1" fmla="val -38430"/>
              <a:gd name="adj2" fmla="val 67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ожно ли было  остановить перерастание проблемы в конфлик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какой мо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059280" y="4149720"/>
            <a:ext cx="5040000" cy="2016000"/>
          </a:xfrm>
          <a:prstGeom prst="cloudCallout">
            <a:avLst>
              <a:gd name="adj1" fmla="val -82222"/>
              <a:gd name="adj2" fmla="val -4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 помешало остановить перерастание проблемы в конфлик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ак вы думаете, каким мог быть результат данного конфли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05360" cy="32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1749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835280" y="5605560"/>
            <a:ext cx="1728720" cy="1252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Стили поведения в конфликтных ситуациях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Избег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ронтац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ход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35280" y="2060640"/>
            <a:ext cx="1726920" cy="3600360"/>
          </a:xfrm>
          <a:prstGeom prst="downArrowCallout">
            <a:avLst>
              <a:gd name="adj1" fmla="val 25002"/>
              <a:gd name="adj2" fmla="val 25000"/>
              <a:gd name="adj3" fmla="val 3474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оловинчат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35280" y="1413000"/>
            <a:ext cx="1871640" cy="3600360"/>
          </a:xfrm>
          <a:prstGeom prst="downArrowCallout">
            <a:avLst>
              <a:gd name="adj1" fmla="val 25002"/>
              <a:gd name="adj2" fmla="val 25000"/>
              <a:gd name="adj3" fmla="val 32061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трудн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честв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ре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их сто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5580000" y="206064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Приспособ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интере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41672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ревнова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ы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j0295563"/>
          <p:cNvPicPr/>
          <p:nvPr/>
        </p:nvPicPr>
        <p:blipFill>
          <a:blip r:embed="rId2"/>
          <a:stretch/>
        </p:blipFill>
        <p:spPr>
          <a:xfrm>
            <a:off x="3564000" y="4437000"/>
            <a:ext cx="2163600" cy="1067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j0238068[1]"/>
          <p:cNvPicPr/>
          <p:nvPr/>
        </p:nvPicPr>
        <p:blipFill>
          <a:blip r:embed="rId3"/>
          <a:stretch/>
        </p:blipFill>
        <p:spPr>
          <a:xfrm>
            <a:off x="-181080" y="4869000"/>
            <a:ext cx="1935360" cy="1471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0234118[1]"/>
          <p:cNvPicPr/>
          <p:nvPr/>
        </p:nvPicPr>
        <p:blipFill>
          <a:blip r:embed="rId4"/>
          <a:stretch/>
        </p:blipFill>
        <p:spPr>
          <a:xfrm>
            <a:off x="5651640" y="5608800"/>
            <a:ext cx="1724040" cy="1249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j0312404[1]"/>
          <p:cNvPicPr/>
          <p:nvPr/>
        </p:nvPicPr>
        <p:blipFill>
          <a:blip r:embed="rId5"/>
          <a:stretch/>
        </p:blipFill>
        <p:spPr>
          <a:xfrm>
            <a:off x="7327800" y="5084640"/>
            <a:ext cx="1816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Выбор способа разрешения конфли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596268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акой способ вы считаете наиболее эффективным в данн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чему вы так считаете?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умайте над последствиями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19680" y="3213000"/>
            <a:ext cx="34243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акой опыт приобрели участники конфликт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Правила Договор"/>
          <p:cNvPicPr/>
          <p:nvPr/>
        </p:nvPicPr>
        <p:blipFill>
          <a:blip r:embed="rId1"/>
          <a:stretch/>
        </p:blipFill>
        <p:spPr>
          <a:xfrm>
            <a:off x="1143000" y="1714680"/>
            <a:ext cx="6572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0238203"/>
          <p:cNvPicPr/>
          <p:nvPr/>
        </p:nvPicPr>
        <p:blipFill>
          <a:blip r:embed="rId1"/>
          <a:srcRect l="0" t="0" r="0" b="2798"/>
          <a:stretch/>
        </p:blipFill>
        <p:spPr>
          <a:xfrm>
            <a:off x="428760" y="-500040"/>
            <a:ext cx="7646760" cy="7775640"/>
          </a:xfrm>
          <a:prstGeom prst="rect">
            <a:avLst/>
          </a:prstGeom>
          <a:ln w="0">
            <a:noFill/>
          </a:ln>
        </p:spPr>
      </p:pic>
      <p:sp>
        <p:nvSpPr>
          <p:cNvPr id="115" name="Oval 4"/>
          <p:cNvSpPr/>
          <p:nvPr/>
        </p:nvSpPr>
        <p:spPr>
          <a:xfrm>
            <a:off x="3059280" y="2205000"/>
            <a:ext cx="244764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3348000" y="2637000"/>
            <a:ext cx="194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вила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ого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веден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конфликт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7" name="WordArt 18"/>
          <p:cNvSpPr txBox="1"/>
          <p:nvPr/>
        </p:nvSpPr>
        <p:spPr>
          <a:xfrm rot="1536600">
            <a:off x="468000" y="692280"/>
            <a:ext cx="32162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348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ись!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торопись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агировать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20"/>
          <p:cNvSpPr txBox="1"/>
          <p:nvPr/>
        </p:nvSpPr>
        <p:spPr>
          <a:xfrm rot="1809600">
            <a:off x="4789080" y="3903480"/>
            <a:ext cx="3743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32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ажись от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ановки: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да любой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ой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1"/>
          <p:cNvSpPr txBox="1"/>
          <p:nvPr/>
        </p:nvSpPr>
        <p:spPr>
          <a:xfrm rot="20311800">
            <a:off x="200160" y="3346200"/>
            <a:ext cx="3563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8685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последствиях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а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22"/>
          <p:cNvSpPr txBox="1"/>
          <p:nvPr/>
        </p:nvSpPr>
        <p:spPr>
          <a:xfrm rot="20145600">
            <a:off x="5003640" y="475920"/>
            <a:ext cx="3598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67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й себе немного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ремени, чтобы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ценить ситуацию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O01236_"/>
          <p:cNvPicPr/>
          <p:nvPr/>
        </p:nvPicPr>
        <p:blipFill>
          <a:blip r:embed="rId1"/>
          <a:stretch/>
        </p:blipFill>
        <p:spPr>
          <a:xfrm>
            <a:off x="2627280" y="2637000"/>
            <a:ext cx="4552920" cy="40352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68360" y="260280"/>
            <a:ext cx="8207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Эффективный способ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разрешения конфликта тот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при котором выигрывают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обе стороны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огда ты очень раздражен, разгнева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916360" y="1628640"/>
            <a:ext cx="439236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8263"/>
              <a:gd name="adj5" fmla="val 196777"/>
              <a:gd name="adj6" fmla="val -5583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ай себе минуту на размышление и, что бы ни произошло, не бросайся сразу в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 rot="10800000">
            <a:off x="1834920" y="2812680"/>
            <a:ext cx="4460760" cy="906480"/>
          </a:xfrm>
          <a:prstGeom prst="borderCallout2">
            <a:avLst>
              <a:gd name="adj1" fmla="val 18750"/>
              <a:gd name="adj2" fmla="val -8333"/>
              <a:gd name="adj3" fmla="val 87388"/>
              <a:gd name="adj4" fmla="val -26513"/>
              <a:gd name="adj5" fmla="val 212606"/>
              <a:gd name="adj6" fmla="val -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осчитай до десяти, сконцентрируй внимание на своем дых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916360" y="3933720"/>
            <a:ext cx="4316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8759"/>
              <a:gd name="adj5" fmla="val 241875"/>
              <a:gd name="adj6" fmla="val -5682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пробуй улыбнуться и подержи улыбку несколько секу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rot="10800000">
            <a:off x="2052360" y="5013360"/>
            <a:ext cx="4389480" cy="977760"/>
          </a:xfrm>
          <a:prstGeom prst="borderCallout2">
            <a:avLst>
              <a:gd name="adj1" fmla="val 18750"/>
              <a:gd name="adj2" fmla="val -8333"/>
              <a:gd name="adj3" fmla="val 88310"/>
              <a:gd name="adj4" fmla="val -24995"/>
              <a:gd name="adj5" fmla="val 217856"/>
              <a:gd name="adj6" fmla="val -492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Если не удается справиться с раздражением, уйди и побудь наедине с собой некотор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bfbfbf"/>
                </a:solidFill>
                <a:latin typeface="Arial"/>
              </a:rPr>
              <a:t>Советуем почитать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14360" y="1571760"/>
            <a:ext cx="63198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Ликсон Чарль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нфликт. Семь шагов к миру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– СПб.: Питер Паблишинг, 1997–(Серия «Гений общ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ригорьева Т.Г., Усольцева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сновы конструктивного общения: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Хрестоматия. – 2-е изд., испр. И доп. – Новосибирск: Изд-во Новосиб. ун-та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99125"/>
          <p:cNvPicPr/>
          <p:nvPr/>
        </p:nvPicPr>
        <p:blipFill>
          <a:blip r:embed="rId1"/>
          <a:stretch/>
        </p:blipFill>
        <p:spPr>
          <a:xfrm>
            <a:off x="684360" y="1628640"/>
            <a:ext cx="2151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8"/>
          <p:cNvSpPr/>
          <p:nvPr/>
        </p:nvSpPr>
        <p:spPr>
          <a:xfrm>
            <a:off x="285840" y="3071880"/>
            <a:ext cx="8858160" cy="3643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Я всегда старался не раздражаться и уступ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оре,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ем и достигал умиротворения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же в спокойном состоянии дело улажив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амо собой. Почти всегда приходится жал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то ссора не была прекращена внач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Толстой Л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124000" y="0"/>
            <a:ext cx="6840720" cy="1584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Оскорбления — это доводы непра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Руссо Ж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ан-Жа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928800" y="1500120"/>
            <a:ext cx="7993080" cy="2016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прямство и чрезмерный пыл в спор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ернейший признак глу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нтень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3"/>
          <p:cNvSpPr/>
          <p:nvPr/>
        </p:nvSpPr>
        <p:spPr>
          <a:xfrm rot="6495000">
            <a:off x="4065480" y="2568600"/>
            <a:ext cx="2813040" cy="395928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5"/>
          <p:cNvSpPr/>
          <p:nvPr/>
        </p:nvSpPr>
        <p:spPr>
          <a:xfrm rot="15414600">
            <a:off x="1786680" y="2692800"/>
            <a:ext cx="2881440" cy="4051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6"/>
          <p:cNvSpPr/>
          <p:nvPr/>
        </p:nvSpPr>
        <p:spPr>
          <a:xfrm>
            <a:off x="2700360" y="1484280"/>
            <a:ext cx="2952720" cy="3673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Осознание конфликтной ситуации, её природ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20"/>
          <p:cNvSpPr txBox="1"/>
          <p:nvPr/>
        </p:nvSpPr>
        <p:spPr>
          <a:xfrm>
            <a:off x="7308720" y="5877000"/>
            <a:ext cx="10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Picture 42" descr="MCj04323850000[1]"/>
          <p:cNvPicPr/>
          <p:nvPr/>
        </p:nvPicPr>
        <p:blipFill>
          <a:blip r:embed="rId1"/>
          <a:stretch/>
        </p:blipFill>
        <p:spPr>
          <a:xfrm>
            <a:off x="5214960" y="3857760"/>
            <a:ext cx="18190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852640" y="1639800"/>
            <a:ext cx="2584440" cy="217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http://im6-tub.mail.ru/i?id=86614482&amp;tov=6"/>
          <p:cNvPicPr/>
          <p:nvPr/>
        </p:nvPicPr>
        <p:blipFill>
          <a:blip r:embed="rId3"/>
          <a:srcRect l="-1144" t="-1339" r="-1525" b="-1491"/>
          <a:stretch/>
        </p:blipFill>
        <p:spPr>
          <a:xfrm>
            <a:off x="2214720" y="40719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http://im6-tub.mail.ru/i?id=123899241&amp;tov=6"/>
          <p:cNvPicPr/>
          <p:nvPr/>
        </p:nvPicPr>
        <p:blipFill>
          <a:blip r:embed="rId4"/>
          <a:srcRect l="0" t="-176" r="-101" b="-375"/>
          <a:stretch/>
        </p:blipFill>
        <p:spPr>
          <a:xfrm>
            <a:off x="1214280" y="3357720"/>
            <a:ext cx="1071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9d9d9"/>
                </a:solidFill>
                <a:latin typeface="Arial"/>
              </a:rPr>
              <a:t>Давайте поразмышляе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Надо ли избегать конфликтов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2627280" y="3357720"/>
            <a:ext cx="3629160" cy="2622240"/>
            <a:chOff x="2627280" y="3357720"/>
            <a:chExt cx="3629160" cy="2622240"/>
          </a:xfrm>
        </p:grpSpPr>
        <p:grpSp>
          <p:nvGrpSpPr>
            <p:cNvPr id="137" name="Group 8"/>
            <p:cNvGrpSpPr/>
            <p:nvPr/>
          </p:nvGrpSpPr>
          <p:grpSpPr>
            <a:xfrm>
              <a:off x="2627280" y="3357720"/>
              <a:ext cx="3629160" cy="2622240"/>
              <a:chOff x="2627280" y="3357720"/>
              <a:chExt cx="3629160" cy="2622240"/>
            </a:xfrm>
          </p:grpSpPr>
          <p:pic>
            <p:nvPicPr>
              <p:cNvPr id="138" name="Picture 7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2627280" y="3357720"/>
                <a:ext cx="3629160" cy="26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WordArt 5"/>
              <p:cNvSpPr txBox="1"/>
              <p:nvPr/>
            </p:nvSpPr>
            <p:spPr>
              <a:xfrm>
                <a:off x="3132000" y="4437000"/>
                <a:ext cx="150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40" name="WordArt 6"/>
            <p:cNvSpPr txBox="1"/>
            <p:nvPr/>
          </p:nvSpPr>
          <p:spPr>
            <a:xfrm>
              <a:off x="5508720" y="4365720"/>
              <a:ext cx="21744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ОНФЛИК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Два взгля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на пробл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j0312392"/>
          <p:cNvPicPr/>
          <p:nvPr/>
        </p:nvPicPr>
        <p:blipFill>
          <a:blip r:embed="rId1"/>
          <a:stretch/>
        </p:blipFill>
        <p:spPr>
          <a:xfrm>
            <a:off x="7904160" y="4941720"/>
            <a:ext cx="12398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1000080" y="4508640"/>
            <a:ext cx="314028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олчок к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витию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4572000" y="4572000"/>
            <a:ext cx="33195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рушающая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ила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AutoShape 7"/>
          <p:cNvSpPr/>
          <p:nvPr/>
        </p:nvSpPr>
        <p:spPr>
          <a:xfrm rot="1003800">
            <a:off x="2781000" y="3499920"/>
            <a:ext cx="360360" cy="1008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 rot="20398200">
            <a:off x="5940360" y="3499920"/>
            <a:ext cx="360360" cy="8668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560 h 866880"/>
              <a:gd name="textAreaBottom" fmla="*/ 6285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/>
          <p:cNvSpPr/>
          <p:nvPr/>
        </p:nvSpPr>
        <p:spPr>
          <a:xfrm>
            <a:off x="428760" y="1285920"/>
            <a:ext cx="8280360" cy="51148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Поиск аргументов в защиту своей поз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1362960" y="2928960"/>
            <a:ext cx="5718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абота в групп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/>
          <p:cNvSpPr/>
          <p:nvPr/>
        </p:nvSpPr>
        <p:spPr>
          <a:xfrm>
            <a:off x="500040" y="1214280"/>
            <a:ext cx="8280360" cy="51152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икер группы зачитывает аргу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защиту своей позиции (не более з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d9d9d9"/>
                </a:solidFill>
                <a:latin typeface="Arial"/>
              </a:rPr>
              <a:t>Защита своей точки зр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d9d9d9"/>
                </a:solidFill>
                <a:latin typeface="Times New Roman"/>
              </a:rPr>
              <a:t>ПОДВЕДЕНИЕ ИТОГОВ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5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ья позиция показалась более аргументирова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о показалось наиболее важ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формулируйте общий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564000" y="3716280"/>
            <a:ext cx="2116080" cy="1255680"/>
            <a:chOff x="3564000" y="3716280"/>
            <a:chExt cx="2116080" cy="1255680"/>
          </a:xfrm>
        </p:grpSpPr>
        <p:grpSp>
          <p:nvGrpSpPr>
            <p:cNvPr id="158" name="Group 5"/>
            <p:cNvGrpSpPr/>
            <p:nvPr/>
          </p:nvGrpSpPr>
          <p:grpSpPr>
            <a:xfrm>
              <a:off x="3564000" y="3716280"/>
              <a:ext cx="2116080" cy="1255680"/>
              <a:chOff x="3564000" y="3716280"/>
              <a:chExt cx="2116080" cy="1255680"/>
            </a:xfrm>
          </p:grpSpPr>
          <p:pic>
            <p:nvPicPr>
              <p:cNvPr id="159" name="Picture 6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716280"/>
                <a:ext cx="2116080" cy="12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WordArt 7"/>
              <p:cNvSpPr txBox="1"/>
              <p:nvPr/>
            </p:nvSpPr>
            <p:spPr>
              <a:xfrm>
                <a:off x="3858120" y="4232880"/>
                <a:ext cx="87840" cy="29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1" name="WordArt 8"/>
            <p:cNvSpPr txBox="1"/>
            <p:nvPr/>
          </p:nvSpPr>
          <p:spPr>
            <a:xfrm>
              <a:off x="5244120" y="4199040"/>
              <a:ext cx="12672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3200" spc="-1" strike="noStrike">
                <a:solidFill>
                  <a:srgbClr val="d9d9d9"/>
                </a:solidFill>
                <a:latin typeface="Arial"/>
              </a:rPr>
              <a:t>Конфликт. Причины и источники его возникнов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3786120"/>
            <a:ext cx="81072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ричины и источники конфликто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речия между интересами, взгляд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борство между лидерами, между  отдельными группами в коллек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собенности темперамента, восприятия, уб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шибки в общении (неумение слушать, правильно задавать вопросы, проявлять эмпатию, реагировать на критику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57120" y="928800"/>
            <a:ext cx="8269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Конфликт</a:t>
            </a:r>
            <a:r>
              <a:rPr b="0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столкновение, серьезное разногласие, спор.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С.И.Ожег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это столкновения, серьезные разногласия, во время которых вас обуревают неприятные чувства или пере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Чарльз Ликсон «Конфликт. 7 шагов к миру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http://im5-tub.mail.ru/i?id=148197121&amp;tov=5"/>
          <p:cNvPicPr/>
          <p:nvPr/>
        </p:nvPicPr>
        <p:blipFill>
          <a:blip r:embed="rId1"/>
          <a:stretch/>
        </p:blipFill>
        <p:spPr>
          <a:xfrm>
            <a:off x="7429680" y="3786120"/>
            <a:ext cx="121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85840" y="149400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-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су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особенности воспитания, характер, уровень образования, возраст, п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-о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менталитет, социальная среда, уровень благосостояния общества, финансовые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Для школьного коллектив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, в котором в процессе деятельности сталкиваются дети и взрослые, существенными являются такие причины, как возраст, пол и менталитет конфликтующ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214280" y="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Прич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возникновения</a:t>
            </a:r>
            <a:r>
              <a:rPr b="1" i="1" lang="ru-RU" sz="4000" spc="-1" strike="noStrike">
                <a:solidFill>
                  <a:srgbClr val="bfbfbf"/>
                </a:solidFill>
                <a:latin typeface="Times New Roman"/>
                <a:ea typeface="Calibri"/>
              </a:rPr>
              <a:t> конфли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57120" y="1518840"/>
            <a:ext cx="8215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Кон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члены коллектива не выходят за рамки этических норм, деловых отношений и разумных аргу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ричинами являются обычно недостатки в организации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Разрешение такого конфликта приводит к развитию отношений между людьми, повышению эффективност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Де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одна из сторон жестко настаивает на своей позиции и не желает учитывать интересы другой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оследствия такого конфликта дисфункциональны и приводят к снижению личной удовлетворенности, эффективност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857160" y="21420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 значению конфликты бывают конструктивные и деструкт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28760" y="1399320"/>
            <a:ext cx="8215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Пози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облема решена так, что это устраивает вс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Совместно принятое решение быстрее и лучше претворяется в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иобретается опыт сотрудничества, который может использоваться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ношения между людьми улучш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Разногласия рассматриваются как зло, приводящее к плохим последств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Нега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бостряются конкурентные отношения между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сутствует стремление к добрым отно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едставление о противоположной стороне как о вр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Убеждение, что проблема важнее, чем её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Чувство обиды, плох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571760" y="28584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следствия конфликт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"/>
          <p:cNvPicPr/>
          <p:nvPr/>
        </p:nvPicPr>
        <p:blipFill>
          <a:blip r:embed="rId1"/>
          <a:stretch/>
        </p:blipFill>
        <p:spPr>
          <a:xfrm>
            <a:off x="5919840" y="0"/>
            <a:ext cx="3224160" cy="258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5904000" y="2205000"/>
            <a:ext cx="3240000" cy="274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-181080" y="0"/>
            <a:ext cx="3297240" cy="263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4"/>
          <a:stretch/>
        </p:blipFill>
        <p:spPr>
          <a:xfrm>
            <a:off x="-324000" y="2133720"/>
            <a:ext cx="3297240" cy="263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tretch/>
        </p:blipFill>
        <p:spPr>
          <a:xfrm>
            <a:off x="2843280" y="0"/>
            <a:ext cx="3166920" cy="2530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6"/>
          <a:stretch/>
        </p:blipFill>
        <p:spPr>
          <a:xfrm>
            <a:off x="-324000" y="4437000"/>
            <a:ext cx="3224520" cy="25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2843280" y="4365720"/>
            <a:ext cx="3286080" cy="26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56392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10"/>
          <p:cNvGrpSpPr/>
          <p:nvPr/>
        </p:nvGrpSpPr>
        <p:grpSpPr>
          <a:xfrm>
            <a:off x="2639880" y="2639880"/>
            <a:ext cx="3584880" cy="1925280"/>
            <a:chOff x="2639880" y="2639880"/>
            <a:chExt cx="3584880" cy="1925280"/>
          </a:xfrm>
        </p:grpSpPr>
        <p:pic>
          <p:nvPicPr>
            <p:cNvPr id="76" name="TextBox 10" descr=""/>
            <p:cNvPicPr/>
            <p:nvPr/>
          </p:nvPicPr>
          <p:blipFill>
            <a:blip r:embed="rId9"/>
            <a:stretch/>
          </p:blipFill>
          <p:spPr>
            <a:xfrm>
              <a:off x="2639880" y="2639880"/>
              <a:ext cx="35848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43120" y="2643120"/>
              <a:ext cx="357192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70c0"/>
                  </a:solidFill>
                  <a:latin typeface="Arial"/>
                </a:rPr>
                <a:t>Школьные конфликт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050920" y="1484280"/>
            <a:ext cx="4824720" cy="1944720"/>
          </a:xfrm>
          <a:prstGeom prst="downArrowCallout">
            <a:avLst>
              <a:gd name="adj1" fmla="val 62029"/>
              <a:gd name="adj2" fmla="val 62023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озникнов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43280" y="3573360"/>
            <a:ext cx="3168720" cy="792360"/>
          </a:xfrm>
          <a:prstGeom prst="downArrowCallout">
            <a:avLst>
              <a:gd name="adj1" fmla="val 99987"/>
              <a:gd name="adj2" fmla="val 99977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539640" y="443700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5435640" y="436572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916360" y="537372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ь 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28840" y="1357200"/>
            <a:ext cx="5857920" cy="1857600"/>
          </a:xfrm>
          <a:prstGeom prst="downArrowCallout">
            <a:avLst>
              <a:gd name="adj1" fmla="val 62024"/>
              <a:gd name="adj2" fmla="val 6201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возникновению конфлик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исциплинарное нарушение на урок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214720" y="3071880"/>
            <a:ext cx="4786200" cy="1150920"/>
          </a:xfrm>
          <a:prstGeom prst="downArrowCallout">
            <a:avLst>
              <a:gd name="adj1" fmla="val 100008"/>
              <a:gd name="adj2" fmla="val 9999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чащиеся класса -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571680" y="3929040"/>
            <a:ext cx="3143160" cy="857160"/>
          </a:xfrm>
          <a:prstGeom prst="downArrowCallout">
            <a:avLst>
              <a:gd name="adj1" fmla="val 78609"/>
              <a:gd name="adj2" fmla="val 78585"/>
              <a:gd name="adj3" fmla="val 15185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72080" y="400068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428920" y="4500720"/>
            <a:ext cx="4214880" cy="1071360"/>
          </a:xfrm>
          <a:prstGeom prst="downArrowCallout">
            <a:avLst>
              <a:gd name="adj1" fmla="val 78617"/>
              <a:gd name="adj2" fmla="val 78591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рытая конфро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6272280" y="48578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85840" y="5500800"/>
            <a:ext cx="8429400" cy="1357200"/>
          </a:xfrm>
          <a:prstGeom prst="downArrowCallout">
            <a:avLst>
              <a:gd name="adj1" fmla="val -65592"/>
              <a:gd name="adj2" fmla="val 78585"/>
              <a:gd name="adj3" fmla="val 16667"/>
              <a:gd name="adj4" fmla="val 83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уть конфликт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тказ соблюдать дисциплину, упреки, повышенный тон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38:58Z</dcterms:created>
  <dc:creator>Maurits Wysmans</dc:creator>
  <dc:description/>
  <dc:language>en-US</dc:language>
  <cp:lastModifiedBy>Наташа</cp:lastModifiedBy>
  <dcterms:modified xsi:type="dcterms:W3CDTF">2010-01-02T10:13:49Z</dcterms:modified>
  <cp:revision>357</cp:revision>
  <dc:subject/>
  <dc:title>Wat doen we er mee?</dc:title>
</cp:coreProperties>
</file>