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png" ContentType="image/png"/>
  <Override PartName="/ppt/media/image2.wmf" ContentType="image/x-wmf"/>
  <Override PartName="/ppt/media/image23.jpeg" ContentType="image/jpeg"/>
  <Override PartName="/ppt/media/image2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8A7-EE6C-423A-9585-997491B1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C685-DD49-436C-8EB4-0A081714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A48-DEB8-453F-9A9D-1488A908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D88-3702-49B3-AB21-18DB5025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FE0-0E8D-47E8-A63A-1E0E2D2F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CD4-2A73-4E59-82DA-8404313B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F10-BF31-452D-90C3-B3B11516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BB64-A38F-4BFC-9D27-FCE88249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5D37-9979-4E99-A2DE-74BF2C82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B89-F61A-49D9-8ABF-716A015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E5B-902A-4FB6-9700-9464AF3E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C25A-1F61-4387-9E1A-A37A6058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FC1D-6C51-4465-8625-57525DFE8DE2}" type="slidenum">
              <a:rPr b="0" lang="nl-B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142120" cy="24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5400" spc="-1" strike="noStrike">
                <a:solidFill>
                  <a:srgbClr val="003399"/>
                </a:solidFill>
                <a:latin typeface="Times New Roman"/>
              </a:rPr>
              <a:t>Конфликт. Эффективные способы его разрешения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11280" y="2421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j0238244"/>
          <p:cNvPicPr/>
          <p:nvPr/>
        </p:nvPicPr>
        <p:blipFill>
          <a:blip r:embed="rId1"/>
          <a:stretch/>
        </p:blipFill>
        <p:spPr>
          <a:xfrm>
            <a:off x="3203640" y="4572000"/>
            <a:ext cx="30351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611280" y="1557360"/>
            <a:ext cx="5256000" cy="2087640"/>
          </a:xfrm>
          <a:prstGeom prst="cloudCallout">
            <a:avLst>
              <a:gd name="adj1" fmla="val -38430"/>
              <a:gd name="adj2" fmla="val 6726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Можно ли было  остановить перерастание проблемы в конфлик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 какой момен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059280" y="4149720"/>
            <a:ext cx="5040000" cy="2016000"/>
          </a:xfrm>
          <a:prstGeom prst="cloudCallout">
            <a:avLst>
              <a:gd name="adj1" fmla="val -82222"/>
              <a:gd name="adj2" fmla="val -46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Что помешало остановить перерастание проблемы в конфлик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ак вы думаете, каким мог быть результат данного конфли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4005360" cy="32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"/>
          <p:cNvPicPr/>
          <p:nvPr/>
        </p:nvPicPr>
        <p:blipFill>
          <a:blip r:embed="rId2"/>
          <a:stretch/>
        </p:blipFill>
        <p:spPr>
          <a:xfrm>
            <a:off x="4284720" y="2781360"/>
            <a:ext cx="417492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835280" y="5605560"/>
            <a:ext cx="1728720" cy="1252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Стили поведения в конфликтных ситуациях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Избега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жел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ать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ронтац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ход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1835280" y="2060640"/>
            <a:ext cx="1726920" cy="3600360"/>
          </a:xfrm>
          <a:prstGeom prst="downArrowCallout">
            <a:avLst>
              <a:gd name="adj1" fmla="val 25002"/>
              <a:gd name="adj2" fmla="val 25000"/>
              <a:gd name="adj3" fmla="val 3474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Компроми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половинчата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го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жд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35280" y="1413000"/>
            <a:ext cx="1871640" cy="3600360"/>
          </a:xfrm>
          <a:prstGeom prst="downArrowCallout">
            <a:avLst>
              <a:gd name="adj1" fmla="val 25002"/>
              <a:gd name="adj2" fmla="val 25000"/>
              <a:gd name="adj3" fmla="val 32061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трудни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чество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итыва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ре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беих стор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5580000" y="206064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Приспособ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ой и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 интерес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руг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7416720" y="1413000"/>
            <a:ext cx="1727280" cy="3600360"/>
          </a:xfrm>
          <a:prstGeom prst="downArrowCallout">
            <a:avLst>
              <a:gd name="adj1" fmla="val 25002"/>
              <a:gd name="adj2" fmla="val 25000"/>
              <a:gd name="adj3" fmla="val 34740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Соревнование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игрыв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д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 сторо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онфли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j0295563"/>
          <p:cNvPicPr/>
          <p:nvPr/>
        </p:nvPicPr>
        <p:blipFill>
          <a:blip r:embed="rId2"/>
          <a:stretch/>
        </p:blipFill>
        <p:spPr>
          <a:xfrm>
            <a:off x="3564000" y="4437000"/>
            <a:ext cx="2163600" cy="1067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j0238068[1]"/>
          <p:cNvPicPr/>
          <p:nvPr/>
        </p:nvPicPr>
        <p:blipFill>
          <a:blip r:embed="rId3"/>
          <a:stretch/>
        </p:blipFill>
        <p:spPr>
          <a:xfrm>
            <a:off x="-181080" y="4869000"/>
            <a:ext cx="1935360" cy="1471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j0234118[1]"/>
          <p:cNvPicPr/>
          <p:nvPr/>
        </p:nvPicPr>
        <p:blipFill>
          <a:blip r:embed="rId4"/>
          <a:stretch/>
        </p:blipFill>
        <p:spPr>
          <a:xfrm>
            <a:off x="5651640" y="5608800"/>
            <a:ext cx="1724040" cy="1249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j0312404[1]"/>
          <p:cNvPicPr/>
          <p:nvPr/>
        </p:nvPicPr>
        <p:blipFill>
          <a:blip r:embed="rId5"/>
          <a:stretch/>
        </p:blipFill>
        <p:spPr>
          <a:xfrm>
            <a:off x="7327800" y="5084640"/>
            <a:ext cx="18162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Выбор способа разрешения конфлик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785960"/>
            <a:ext cx="596268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Какой способ вы считаете наиболее эффективным в данн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чему вы так считаете? Обоснуй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одумайте над последствиями вы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719680" y="3213000"/>
            <a:ext cx="34243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акой опыт приобрели участники конфликта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Правила Договор"/>
          <p:cNvPicPr/>
          <p:nvPr/>
        </p:nvPicPr>
        <p:blipFill>
          <a:blip r:embed="rId1"/>
          <a:stretch/>
        </p:blipFill>
        <p:spPr>
          <a:xfrm>
            <a:off x="1143000" y="1714680"/>
            <a:ext cx="6572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0238203"/>
          <p:cNvPicPr/>
          <p:nvPr/>
        </p:nvPicPr>
        <p:blipFill>
          <a:blip r:embed="rId1"/>
          <a:srcRect l="0" t="0" r="0" b="2798"/>
          <a:stretch/>
        </p:blipFill>
        <p:spPr>
          <a:xfrm>
            <a:off x="428760" y="-500040"/>
            <a:ext cx="7646760" cy="7775640"/>
          </a:xfrm>
          <a:prstGeom prst="rect">
            <a:avLst/>
          </a:prstGeom>
          <a:ln w="0">
            <a:noFill/>
          </a:ln>
        </p:spPr>
      </p:pic>
      <p:sp>
        <p:nvSpPr>
          <p:cNvPr id="115" name="Oval 4"/>
          <p:cNvSpPr/>
          <p:nvPr/>
        </p:nvSpPr>
        <p:spPr>
          <a:xfrm>
            <a:off x="3059280" y="2205000"/>
            <a:ext cx="244764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17"/>
          <p:cNvSpPr txBox="1"/>
          <p:nvPr/>
        </p:nvSpPr>
        <p:spPr>
          <a:xfrm>
            <a:off x="3348000" y="2637000"/>
            <a:ext cx="1943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авила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ффективного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ведения 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 конфликте</a:t>
            </a:r>
            <a:endParaRPr b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7" name="WordArt 18"/>
          <p:cNvSpPr txBox="1"/>
          <p:nvPr/>
        </p:nvSpPr>
        <p:spPr>
          <a:xfrm rot="1536600">
            <a:off x="468000" y="692280"/>
            <a:ext cx="3216240" cy="201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348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тановись!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е торопись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еагировать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WordArt 20"/>
          <p:cNvSpPr txBox="1"/>
          <p:nvPr/>
        </p:nvSpPr>
        <p:spPr>
          <a:xfrm rot="1809600">
            <a:off x="4789080" y="3903480"/>
            <a:ext cx="3743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2329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кажись от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ановки: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еда любой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ной.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WordArt 21"/>
          <p:cNvSpPr txBox="1"/>
          <p:nvPr/>
        </p:nvSpPr>
        <p:spPr>
          <a:xfrm rot="20311800">
            <a:off x="200160" y="3346200"/>
            <a:ext cx="3563640" cy="23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28685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думай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 последствиях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бора!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WordArt 22"/>
          <p:cNvSpPr txBox="1"/>
          <p:nvPr/>
        </p:nvSpPr>
        <p:spPr>
          <a:xfrm rot="20145600">
            <a:off x="5003640" y="475920"/>
            <a:ext cx="35989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367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ай себе немного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ремени, чтобы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ценить ситуацию </a:t>
            </a:r>
            <a:endParaRPr b="1" i="1" lang="en-US" sz="20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SO01236_"/>
          <p:cNvPicPr/>
          <p:nvPr/>
        </p:nvPicPr>
        <p:blipFill>
          <a:blip r:embed="rId1"/>
          <a:stretch/>
        </p:blipFill>
        <p:spPr>
          <a:xfrm>
            <a:off x="2627280" y="2637000"/>
            <a:ext cx="4552920" cy="40352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7"/>
          <p:cNvSpPr txBox="1"/>
          <p:nvPr/>
        </p:nvSpPr>
        <p:spPr>
          <a:xfrm>
            <a:off x="468360" y="260280"/>
            <a:ext cx="8207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Эффективный способ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разрешения конфликта тот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 </a:t>
            </a: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при котором выигрывают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+mj-lt"/>
              </a:rPr>
              <a:t>обе стороны!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Когда ты очень раздражен, разгневан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916360" y="1628640"/>
            <a:ext cx="439236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-28263"/>
              <a:gd name="adj5" fmla="val 196777"/>
              <a:gd name="adj6" fmla="val -5583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Дай себе минуту на размышление и, что бы ни произошло, не бросайся сразу в 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 rot="10800000">
            <a:off x="1834920" y="2812680"/>
            <a:ext cx="4460760" cy="906480"/>
          </a:xfrm>
          <a:prstGeom prst="borderCallout2">
            <a:avLst>
              <a:gd name="adj1" fmla="val 18750"/>
              <a:gd name="adj2" fmla="val -8333"/>
              <a:gd name="adj3" fmla="val 87388"/>
              <a:gd name="adj4" fmla="val -26513"/>
              <a:gd name="adj5" fmla="val 212606"/>
              <a:gd name="adj6" fmla="val -5245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Сосчитай до десяти, сконцентрируй внимание на своем дых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2916360" y="3933720"/>
            <a:ext cx="43164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8759"/>
              <a:gd name="adj5" fmla="val 241875"/>
              <a:gd name="adj6" fmla="val -5682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Попробуй улыбнуться и подержи улыбку несколько секу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 rot="10800000">
            <a:off x="2052360" y="5013360"/>
            <a:ext cx="4389480" cy="977760"/>
          </a:xfrm>
          <a:prstGeom prst="borderCallout2">
            <a:avLst>
              <a:gd name="adj1" fmla="val 18750"/>
              <a:gd name="adj2" fmla="val -8333"/>
              <a:gd name="adj3" fmla="val 88310"/>
              <a:gd name="adj4" fmla="val -24995"/>
              <a:gd name="adj5" fmla="val 217856"/>
              <a:gd name="adj6" fmla="val -4929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Если не удается справиться с раздражением, уйди и побудь наедине с собой некоторое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bfbfbf"/>
                </a:solidFill>
                <a:latin typeface="Arial"/>
              </a:rPr>
              <a:t>Советуем почитать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14360" y="1571760"/>
            <a:ext cx="63198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Ликсон Чарль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онфликт. Семь шагов к миру.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– СПб.: Питер Паблишинг, 1997–(Серия «Гений общения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Григорьева Т.Г., Усольцева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сновы конструктивного общения: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Хрестоматия. – 2-е изд., испр. И доп. – Новосибирск: Изд-во Новосиб. ун-та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j0299125"/>
          <p:cNvPicPr/>
          <p:nvPr/>
        </p:nvPicPr>
        <p:blipFill>
          <a:blip r:embed="rId1"/>
          <a:stretch/>
        </p:blipFill>
        <p:spPr>
          <a:xfrm>
            <a:off x="684360" y="1628640"/>
            <a:ext cx="2151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8"/>
          <p:cNvSpPr/>
          <p:nvPr/>
        </p:nvSpPr>
        <p:spPr>
          <a:xfrm>
            <a:off x="285840" y="3071880"/>
            <a:ext cx="8858160" cy="364320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Я всегда старался не раздражаться и уступать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оре,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ем и достигал умиротворения, а по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же в спокойном состоянии дело улаживало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само собой. Почти всегда приходится жал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что ссора не была прекращена внач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Толстой Л. 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124000" y="0"/>
            <a:ext cx="6840720" cy="1584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Оскорбления — это доводы неправ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Руссо Ж</a:t>
            </a: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ан-Жак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928800" y="1500120"/>
            <a:ext cx="7993080" cy="2016360"/>
          </a:xfrm>
          <a:prstGeom prst="horizont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Упрямство и чрезмерный пыл в спор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ернейший признак глуп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Монтень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3"/>
          <p:cNvSpPr/>
          <p:nvPr/>
        </p:nvSpPr>
        <p:spPr>
          <a:xfrm rot="6495000">
            <a:off x="4065480" y="2568600"/>
            <a:ext cx="2813040" cy="395928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5"/>
          <p:cNvSpPr/>
          <p:nvPr/>
        </p:nvSpPr>
        <p:spPr>
          <a:xfrm rot="15414600">
            <a:off x="1786680" y="2692800"/>
            <a:ext cx="2881440" cy="4051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26"/>
          <p:cNvSpPr/>
          <p:nvPr/>
        </p:nvSpPr>
        <p:spPr>
          <a:xfrm>
            <a:off x="2700360" y="1484280"/>
            <a:ext cx="2952720" cy="3673440"/>
          </a:xfrm>
          <a:prstGeom prst="ellipse">
            <a:avLst/>
          </a:prstGeom>
          <a:solidFill>
            <a:srgbClr val="99ccff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Осознание конфликтной ситуации, её природы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WordArt 20"/>
          <p:cNvSpPr txBox="1"/>
          <p:nvPr/>
        </p:nvSpPr>
        <p:spPr>
          <a:xfrm>
            <a:off x="7308720" y="5877000"/>
            <a:ext cx="100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3" name="Picture 42" descr="MCj04323850000[1]"/>
          <p:cNvPicPr/>
          <p:nvPr/>
        </p:nvPicPr>
        <p:blipFill>
          <a:blip r:embed="rId1"/>
          <a:stretch/>
        </p:blipFill>
        <p:spPr>
          <a:xfrm>
            <a:off x="5214960" y="3857760"/>
            <a:ext cx="18190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2852640" y="1639800"/>
            <a:ext cx="2584440" cy="2170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http://im6-tub.mail.ru/i?id=86614482&amp;tov=6"/>
          <p:cNvPicPr/>
          <p:nvPr/>
        </p:nvPicPr>
        <p:blipFill>
          <a:blip r:embed="rId3"/>
          <a:srcRect l="-1144" t="-1339" r="-1525" b="-1491"/>
          <a:stretch/>
        </p:blipFill>
        <p:spPr>
          <a:xfrm>
            <a:off x="2214720" y="4071960"/>
            <a:ext cx="135720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" descr="http://im6-tub.mail.ru/i?id=123899241&amp;tov=6"/>
          <p:cNvPicPr/>
          <p:nvPr/>
        </p:nvPicPr>
        <p:blipFill>
          <a:blip r:embed="rId4"/>
          <a:srcRect l="0" t="-176" r="-101" b="-375"/>
          <a:stretch/>
        </p:blipFill>
        <p:spPr>
          <a:xfrm>
            <a:off x="1214280" y="3357720"/>
            <a:ext cx="10717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67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9d9d9"/>
                </a:solidFill>
                <a:latin typeface="Arial"/>
              </a:rPr>
              <a:t>Давайте поразмышляем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Надо ли избегать конфликтов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"/>
          <p:cNvGrpSpPr/>
          <p:nvPr/>
        </p:nvGrpSpPr>
        <p:grpSpPr>
          <a:xfrm>
            <a:off x="2627280" y="3357720"/>
            <a:ext cx="3629160" cy="2622240"/>
            <a:chOff x="2627280" y="3357720"/>
            <a:chExt cx="3629160" cy="2622240"/>
          </a:xfrm>
        </p:grpSpPr>
        <p:grpSp>
          <p:nvGrpSpPr>
            <p:cNvPr id="137" name="Group 8"/>
            <p:cNvGrpSpPr/>
            <p:nvPr/>
          </p:nvGrpSpPr>
          <p:grpSpPr>
            <a:xfrm>
              <a:off x="2627280" y="3357720"/>
              <a:ext cx="3629160" cy="2622240"/>
              <a:chOff x="2627280" y="3357720"/>
              <a:chExt cx="3629160" cy="2622240"/>
            </a:xfrm>
          </p:grpSpPr>
          <p:pic>
            <p:nvPicPr>
              <p:cNvPr id="138" name="Picture 7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2627280" y="3357720"/>
                <a:ext cx="3629160" cy="26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WordArt 5"/>
              <p:cNvSpPr txBox="1"/>
              <p:nvPr/>
            </p:nvSpPr>
            <p:spPr>
              <a:xfrm>
                <a:off x="3132000" y="4437000"/>
                <a:ext cx="15084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40" name="WordArt 6"/>
            <p:cNvSpPr txBox="1"/>
            <p:nvPr/>
          </p:nvSpPr>
          <p:spPr>
            <a:xfrm>
              <a:off x="5508720" y="4365720"/>
              <a:ext cx="217440" cy="6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bfbfbf"/>
                </a:solidFill>
                <a:latin typeface="Arial"/>
              </a:rPr>
              <a:t>КОНФЛИКТ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Два взгля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на пробле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j0312392"/>
          <p:cNvPicPr/>
          <p:nvPr/>
        </p:nvPicPr>
        <p:blipFill>
          <a:blip r:embed="rId1"/>
          <a:stretch/>
        </p:blipFill>
        <p:spPr>
          <a:xfrm>
            <a:off x="7904160" y="4941720"/>
            <a:ext cx="123984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1000080" y="4508640"/>
            <a:ext cx="314028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толчок к 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витию</a:t>
            </a:r>
            <a:endParaRPr b="1" i="1" lang="en-US" sz="2400" spc="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4572000" y="4572000"/>
            <a:ext cx="331956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Конфликт - это 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разрушающая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ила</a:t>
            </a:r>
            <a:endParaRPr b="1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AutoShape 7"/>
          <p:cNvSpPr/>
          <p:nvPr/>
        </p:nvSpPr>
        <p:spPr>
          <a:xfrm rot="1003800">
            <a:off x="2781000" y="3499920"/>
            <a:ext cx="360360" cy="1008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 rot="20398200">
            <a:off x="5940360" y="3499920"/>
            <a:ext cx="360360" cy="866880"/>
          </a:xfrm>
          <a:custGeom>
            <a:avLst/>
            <a:gdLst>
              <a:gd name="textAreaLeft" fmla="*/ 48240 w 360360"/>
              <a:gd name="textAreaRight" fmla="*/ 312120 w 360360"/>
              <a:gd name="textAreaTop" fmla="*/ 151560 h 866880"/>
              <a:gd name="textAreaBottom" fmla="*/ 62856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8"/>
          <p:cNvSpPr/>
          <p:nvPr/>
        </p:nvSpPr>
        <p:spPr>
          <a:xfrm>
            <a:off x="428760" y="1285920"/>
            <a:ext cx="8280360" cy="511488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Поиск аргументов в защиту своей пози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1362960" y="2928960"/>
            <a:ext cx="5718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Работа в групп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8"/>
          <p:cNvSpPr/>
          <p:nvPr/>
        </p:nvSpPr>
        <p:spPr>
          <a:xfrm>
            <a:off x="500040" y="1214280"/>
            <a:ext cx="8280360" cy="5115240"/>
          </a:xfrm>
          <a:prstGeom prst="flowChartPunchedTap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пикер группы зачитывает аргум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в защиту своей позиции (не более з мину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1216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d9d9d9"/>
                </a:solidFill>
                <a:latin typeface="Arial"/>
              </a:rPr>
              <a:t>Защита своей точки зр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MCj04315850000[1]"/>
          <p:cNvPicPr/>
          <p:nvPr/>
        </p:nvPicPr>
        <p:blipFill>
          <a:blip r:embed="rId1"/>
          <a:stretch/>
        </p:blipFill>
        <p:spPr>
          <a:xfrm>
            <a:off x="6948360" y="4662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>
                <a:solidFill>
                  <a:srgbClr val="d9d9d9"/>
                </a:solidFill>
                <a:latin typeface="Times New Roman"/>
              </a:rPr>
              <a:t>ПОДВЕДЕНИЕ ИТОГОВ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05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ья позиция показалась более аргументирован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Что показалось наиболее важн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формулируйте общий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3564000" y="3716280"/>
            <a:ext cx="2116080" cy="1255680"/>
            <a:chOff x="3564000" y="3716280"/>
            <a:chExt cx="2116080" cy="1255680"/>
          </a:xfrm>
        </p:grpSpPr>
        <p:grpSp>
          <p:nvGrpSpPr>
            <p:cNvPr id="158" name="Group 5"/>
            <p:cNvGrpSpPr/>
            <p:nvPr/>
          </p:nvGrpSpPr>
          <p:grpSpPr>
            <a:xfrm>
              <a:off x="3564000" y="3716280"/>
              <a:ext cx="2116080" cy="1255680"/>
              <a:chOff x="3564000" y="3716280"/>
              <a:chExt cx="2116080" cy="1255680"/>
            </a:xfrm>
          </p:grpSpPr>
          <p:pic>
            <p:nvPicPr>
              <p:cNvPr id="159" name="Picture 6" descr="j0344103[1]"/>
              <p:cNvPicPr/>
              <p:nvPr/>
            </p:nvPicPr>
            <p:blipFill>
              <a:blip r:embed="rId1"/>
              <a:stretch/>
            </p:blipFill>
            <p:spPr>
              <a:xfrm>
                <a:off x="3564000" y="3716280"/>
                <a:ext cx="2116080" cy="12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WordArt 7"/>
              <p:cNvSpPr txBox="1"/>
              <p:nvPr/>
            </p:nvSpPr>
            <p:spPr>
              <a:xfrm>
                <a:off x="3858120" y="4232880"/>
                <a:ext cx="87840" cy="29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!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  <p:sp>
          <p:nvSpPr>
            <p:cNvPr id="161" name="WordArt 8"/>
            <p:cNvSpPr txBox="1"/>
            <p:nvPr/>
          </p:nvSpPr>
          <p:spPr>
            <a:xfrm>
              <a:off x="5244120" y="4199040"/>
              <a:ext cx="126720" cy="327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3200" spc="-1" strike="noStrike">
                <a:solidFill>
                  <a:srgbClr val="d9d9d9"/>
                </a:solidFill>
                <a:latin typeface="Arial"/>
              </a:rPr>
              <a:t>Конфликт. Причины и источники его возникнов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28760" y="3786120"/>
            <a:ext cx="81072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Причины и источники конфликто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речия между интересами, взглядам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тивоборство между лидерами, между  отдельными группами в коллект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собенности темперамента, восприятия, уб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шибки в общении (неумение слушать, правильно задавать вопросы, проявлять эмпатию, реагировать на критику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357120" y="928800"/>
            <a:ext cx="82692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Конфликт</a:t>
            </a:r>
            <a:r>
              <a:rPr b="0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столкновение, серьезное разногласие, спор.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С.И.Ожег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66cc"/>
                </a:solidFill>
                <a:latin typeface="Arial"/>
              </a:rPr>
              <a:t>- это столкновения, серьезные разногласия, во время которых вас обуревают неприятные чувства или пере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1" i="1" lang="ru-RU" sz="1600" spc="-1" strike="noStrike">
                <a:solidFill>
                  <a:srgbClr val="0066cc"/>
                </a:solidFill>
                <a:latin typeface="Arial"/>
              </a:rPr>
              <a:t>(Чарльз Ликсон «Конфликт. 7 шагов к миру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1" descr="http://im5-tub.mail.ru/i?id=148197121&amp;tov=5"/>
          <p:cNvPicPr/>
          <p:nvPr/>
        </p:nvPicPr>
        <p:blipFill>
          <a:blip r:embed="rId1"/>
          <a:stretch/>
        </p:blipFill>
        <p:spPr>
          <a:xfrm>
            <a:off x="7429680" y="3786120"/>
            <a:ext cx="1214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85840" y="149400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- </a:t>
            </a: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су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особенности воспитания, характер, уровень образования, возраст, по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-объективные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: менталитет, социальная среда, уровень благосостояния общества, финансовые ресур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	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Calibri"/>
              </a:rPr>
              <a:t>Для школьного коллектива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  <a:ea typeface="Calibri"/>
              </a:rPr>
              <a:t>, в котором в процессе деятельности сталкиваются дети и взрослые, существенными являются такие причины, как возраст, пол и менталитет конфликтующи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1214280" y="0"/>
            <a:ext cx="76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Причи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fbfbf"/>
                </a:solidFill>
                <a:uFillTx/>
                <a:latin typeface="Times New Roman"/>
                <a:ea typeface="Calibri"/>
              </a:rPr>
              <a:t>возникновения</a:t>
            </a:r>
            <a:r>
              <a:rPr b="1" i="1" lang="ru-RU" sz="4000" spc="-1" strike="noStrike">
                <a:solidFill>
                  <a:srgbClr val="bfbfbf"/>
                </a:solidFill>
                <a:latin typeface="Times New Roman"/>
                <a:ea typeface="Calibri"/>
              </a:rPr>
              <a:t> конфли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357120" y="1518840"/>
            <a:ext cx="82155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Кон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члены коллектива не выходят за рамки этических норм, деловых отношений и разумных аргумен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ричинами являются обычно недостатки в организации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Разрешение такого конфликта приводит к развитию отношений между людьми, повышению эффективности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70c0"/>
                </a:solidFill>
                <a:uFillTx/>
                <a:latin typeface="Arial"/>
                <a:ea typeface="Calibri"/>
              </a:rPr>
              <a:t>Деструктивный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 конфликт возникает, когда одна из сторон жестко настаивает на своей позиции и не желает учитывать интересы другой ст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Calibri"/>
              </a:rPr>
              <a:t>Последствия такого конфликта дисфункциональны и приводят к снижению личной удовлетворенности, эффективности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857160" y="214200"/>
            <a:ext cx="671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 значению конфликты бывают конструктивные и деструктив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428760" y="1399320"/>
            <a:ext cx="82152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Пози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облема решена так, что это устраивает вс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Совместно принятое решение быстрее и лучше претворяется в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иобретается опыт сотрудничества, который может использоваться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ношения между людьми улучш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Разногласия рассматриваются как зло, приводящее к плохим последств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  <a:ea typeface="Calibri"/>
              </a:rPr>
              <a:t>Негативные последствия конфли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бостряются конкурентные отношения между люд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Отсутствует стремление к добрым отноше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Представление о противоположной стороне как о вра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Убеждение, что проблема важнее, чем её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  <a:ea typeface="Calibri"/>
              </a:rPr>
              <a:t>Чувство обиды, плохое настро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1571760" y="28584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9d9d9"/>
                </a:solidFill>
                <a:latin typeface="Times New Roman"/>
                <a:ea typeface="Calibri"/>
              </a:rPr>
              <a:t>Последствия конфликта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5" descr=""/>
          <p:cNvPicPr/>
          <p:nvPr/>
        </p:nvPicPr>
        <p:blipFill>
          <a:blip r:embed="rId1"/>
          <a:stretch/>
        </p:blipFill>
        <p:spPr>
          <a:xfrm>
            <a:off x="5919840" y="0"/>
            <a:ext cx="3224160" cy="2581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5904000" y="2205000"/>
            <a:ext cx="3240000" cy="274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"/>
          <p:cNvPicPr/>
          <p:nvPr/>
        </p:nvPicPr>
        <p:blipFill>
          <a:blip r:embed="rId3"/>
          <a:stretch/>
        </p:blipFill>
        <p:spPr>
          <a:xfrm>
            <a:off x="-181080" y="0"/>
            <a:ext cx="3297240" cy="263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4"/>
          <a:stretch/>
        </p:blipFill>
        <p:spPr>
          <a:xfrm>
            <a:off x="-324000" y="2133720"/>
            <a:ext cx="3297240" cy="263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tretch/>
        </p:blipFill>
        <p:spPr>
          <a:xfrm>
            <a:off x="2843280" y="0"/>
            <a:ext cx="3166920" cy="2530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6"/>
          <a:stretch/>
        </p:blipFill>
        <p:spPr>
          <a:xfrm>
            <a:off x="-324000" y="4437000"/>
            <a:ext cx="3224520" cy="2581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7"/>
          <a:stretch/>
        </p:blipFill>
        <p:spPr>
          <a:xfrm>
            <a:off x="2843280" y="4365720"/>
            <a:ext cx="3286080" cy="262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3203640" cy="2563920"/>
          </a:xfrm>
          <a:prstGeom prst="rect">
            <a:avLst/>
          </a:prstGeom>
          <a:ln w="0">
            <a:noFill/>
          </a:ln>
        </p:spPr>
      </p:pic>
      <p:grpSp>
        <p:nvGrpSpPr>
          <p:cNvPr id="75" name="TextBox 10"/>
          <p:cNvGrpSpPr/>
          <p:nvPr/>
        </p:nvGrpSpPr>
        <p:grpSpPr>
          <a:xfrm>
            <a:off x="2639880" y="2639880"/>
            <a:ext cx="3584880" cy="1925280"/>
            <a:chOff x="2639880" y="2639880"/>
            <a:chExt cx="3584880" cy="1925280"/>
          </a:xfrm>
        </p:grpSpPr>
        <p:pic>
          <p:nvPicPr>
            <p:cNvPr id="76" name="TextBox 10" descr=""/>
            <p:cNvPicPr/>
            <p:nvPr/>
          </p:nvPicPr>
          <p:blipFill>
            <a:blip r:embed="rId9"/>
            <a:stretch/>
          </p:blipFill>
          <p:spPr>
            <a:xfrm>
              <a:off x="2639880" y="2639880"/>
              <a:ext cx="358488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643120" y="2643120"/>
              <a:ext cx="357192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0070c0"/>
                  </a:solidFill>
                  <a:latin typeface="Arial"/>
                </a:rPr>
                <a:t>Школьные конфликт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050920" y="1484280"/>
            <a:ext cx="4824720" cy="1944720"/>
          </a:xfrm>
          <a:prstGeom prst="downArrowCallout">
            <a:avLst>
              <a:gd name="adj1" fmla="val 62029"/>
              <a:gd name="adj2" fmla="val 62023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возникнов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43280" y="3573360"/>
            <a:ext cx="3168720" cy="792360"/>
          </a:xfrm>
          <a:prstGeom prst="downArrowCallout">
            <a:avLst>
              <a:gd name="adj1" fmla="val 99987"/>
              <a:gd name="adj2" fmla="val 99977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539640" y="443700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5435640" y="436572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2916360" y="5373720"/>
            <a:ext cx="3168360" cy="1008000"/>
          </a:xfrm>
          <a:prstGeom prst="downArrowCallout">
            <a:avLst>
              <a:gd name="adj1" fmla="val 78588"/>
              <a:gd name="adj2" fmla="val 78580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ь конфлик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fbfbf"/>
                </a:solidFill>
                <a:latin typeface="Arial"/>
              </a:rPr>
              <a:t>Анализ конфликтной 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428840" y="1357200"/>
            <a:ext cx="5857920" cy="1857600"/>
          </a:xfrm>
          <a:prstGeom prst="downArrowCallout">
            <a:avLst>
              <a:gd name="adj1" fmla="val 62024"/>
              <a:gd name="adj2" fmla="val 6201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ая проблема послужила толч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возникновению конфликт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исциплинарное нарушение на урок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214720" y="3071880"/>
            <a:ext cx="4786200" cy="1150920"/>
          </a:xfrm>
          <a:prstGeom prst="downArrowCallout">
            <a:avLst>
              <a:gd name="adj1" fmla="val 100008"/>
              <a:gd name="adj2" fmla="val 9999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стники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Учащиеся класса - 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571680" y="3929040"/>
            <a:ext cx="3143160" cy="857160"/>
          </a:xfrm>
          <a:prstGeom prst="downArrowCallout">
            <a:avLst>
              <a:gd name="adj1" fmla="val 78609"/>
              <a:gd name="adj2" fmla="val 78585"/>
              <a:gd name="adj3" fmla="val 15185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од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5572080" y="4000680"/>
            <a:ext cx="3168720" cy="1008000"/>
          </a:xfrm>
          <a:prstGeom prst="downArrowCallout">
            <a:avLst>
              <a:gd name="adj1" fmla="val 78597"/>
              <a:gd name="adj2" fmla="val 78589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ия дру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роны конфли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428920" y="4500720"/>
            <a:ext cx="4214880" cy="1071360"/>
          </a:xfrm>
          <a:prstGeom prst="downArrowCallout">
            <a:avLst>
              <a:gd name="adj1" fmla="val 78617"/>
              <a:gd name="adj2" fmla="val 78591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Открытая конфро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6272280" y="485784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85840" y="5500800"/>
            <a:ext cx="8429400" cy="1357200"/>
          </a:xfrm>
          <a:prstGeom prst="downArrowCallout">
            <a:avLst>
              <a:gd name="adj1" fmla="val -65592"/>
              <a:gd name="adj2" fmla="val 78585"/>
              <a:gd name="adj3" fmla="val 16667"/>
              <a:gd name="adj4" fmla="val 8333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чем суть конфликта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Отказ соблюдать дисциплину, упреки, повышенный тон об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1:38:58Z</dcterms:created>
  <dc:creator>Maurits Wysmans</dc:creator>
  <dc:description/>
  <dc:language>en-US</dc:language>
  <cp:lastModifiedBy>Наташа</cp:lastModifiedBy>
  <dcterms:modified xsi:type="dcterms:W3CDTF">2010-01-02T10:13:49Z</dcterms:modified>
  <cp:revision>357</cp:revision>
  <dc:subject/>
  <dc:title>Wat doen we er mee?</dc:title>
</cp:coreProperties>
</file>